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BB4-F764-45C9-AFF1-DFD8EBA3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1A0-3336-49BA-9194-126E5564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1B1-C68C-40FA-9352-1E8060DD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5EA-337A-4CFA-B31C-F3964263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B7D-E01B-4C19-88C8-56398AC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2CD-285F-462A-A78B-907A918D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071-210C-401B-8F6E-A843C16E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CA1-62BC-4496-B697-21D4E91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E76-1B01-41E5-9B9D-531E61C1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E93-B040-41D6-ABF5-6BCABDA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B31-E061-497C-BC12-46A8ACF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ECC-3A29-4B17-B8F5-CD5467E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29F-ED93-497F-A159-7DBE1B85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Hey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America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Guess what WE h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WHERE DO I SEND MY MONEY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!?!!?!one!!eleven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Good thing you asked there bud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Just like we’re tellin every resident in the USA, mail us your money to PO Box </a:t>
            </a: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Thisplace Sumbrella Corporation 666 or call 666-666-6669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Guess! Yes? No? NO! Wrong!</a:t>
            </a: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anks to our innovative technology we have made a terrific discovery!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Paying for </a:t>
            </a: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maids will be a thing of the p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"/>
              </a:rPr>
              <a:t>Too good to be true? Well…. Introduc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Zomboids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Using this unique and magnificent spray can bring the dead back for extended periods of time and UN-live to ser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Need a loyal friend because you don’t have one?</a:t>
            </a: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ey can play video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Clean YOUR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And whatever else your infinite imagination can think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HOW DO YOU MANAGE A ZOMBOID?!</a:t>
            </a:r>
            <a:r>
              <a:rPr b="0" lang="en-US" sz="4000" spc="-1" strike="noStrike">
                <a:solidFill>
                  <a:srgbClr val="ff3300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Weeeeeeee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ey don’t eat, sleep, or breat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Require less maintenance then a candy brace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Hell, just throw the thing in a ditch behind your ho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Easy as 1, 2, 3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BLASPHEMY you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Well, when Zomboids are blasting the baddies away on the battlefield our men’s lives are being saved!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hat’s right ki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No need for a draft now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Uncle Sam thank outside the box and no longer will the living per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I don’t know but I’ve been I’ve been told, Zomboids are pwning even though they’re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w WHAT?!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Thanks for asking gu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For only two payments of 100 dollars we’ll give to you this stupendously </a:t>
            </a:r>
            <a:r>
              <a:rPr b="0" lang="en-US" sz="3200" spc="-1" strike="noStrike">
                <a:solidFill>
                  <a:srgbClr val="ff0000"/>
                </a:solidFill>
                <a:latin typeface="comic"/>
              </a:rPr>
              <a:t>amazing product that can fill the gap in your family vo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CALL NOOOOOOW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 :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Don’t wait guys! Pretty soon we’ll be SOOOOOOOLD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7:30:07Z</dcterms:created>
  <dc:creator>mcps</dc:creator>
  <dc:description/>
  <dc:language>en-US</dc:language>
  <cp:lastModifiedBy>mcps</cp:lastModifiedBy>
  <dcterms:modified xsi:type="dcterms:W3CDTF">2009-09-25T12:33:12Z</dcterms:modified>
  <cp:revision>8</cp:revision>
  <dc:subject/>
  <dc:title>Hey America!!</dc:title>
</cp:coreProperties>
</file>